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D0B-2675-4E68-A663-1868B017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C0A-5845-4F81-AE78-7C3A816E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E94-3069-4AF0-AE7B-DF725BAA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EE3-4D88-403F-8590-BBE24181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C8CB-B4CD-4D5B-B65D-56E95B02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3FBA-2F78-4A07-9B71-730C8EC2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F83B-12AC-4D60-BBF4-36793458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86A7-7F2A-4C7D-A73A-8B6C2BDC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B44B-2518-453C-B483-C5FD6809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6F7B-A27F-4A0D-98B5-A99F4CB7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D63F-D2E8-4DC5-B246-79977336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C6C-2470-412D-8819-FDDE312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7B67-0539-4EDE-A7E4-2248256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18A0-DD12-4A6E-95C5-11A99A0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5477-4399-48FB-87FF-BBD6B484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69A1-9536-4F82-BB6A-D6A5DF27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A2BF-68C5-4897-B505-855C7788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31E-FE95-4B54-8031-B5DD70D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83D-58B7-40B4-B117-EFFE49E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93C-F837-4519-BD12-907A4C3D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7E2-DF9E-4F0B-9E92-AB723CA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D08-4ECE-4A06-AED6-E06199F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824-0392-4B4A-9232-1C39DE1C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E9F-E2BA-4ACD-968D-A7F822A1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83E9-D4AF-49E9-8740-36FE93225B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F3E0-4EB1-45E0-A763-74394F6AB01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dw.co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enj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ssessing Student Talk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etting Kids to Engage in Conversa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64832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tin J. Smi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dison Twp Public Schools, NJ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tin.smith@edison.k12.nj.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What does a “novice-mid” speaker look li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sts and memorized langu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communi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formation or common setting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swer simple 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iculty forming 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icult to underst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mited 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eds repetition/restat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What does the “intermediate-low” speaker look li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rings of sentenc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k and answer simple 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rvival skill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fortable with familiar top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s more risks = Frequent err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ss accurate as task/message becomes more comple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What does the “pre-advanced” speaker look li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rrate and describe in major time frames most of the 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pics of general or personal inte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derstood without difficul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speak in well formed paragraph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aphra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ircumlocu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How can we TEACH interpersonal speaking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del interpersonal mode for cl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courage turn-tak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lerate silen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how interest in students’ respon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courage elabo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sk for clarifi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cas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void correcting students in front of pe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warm atmosphere = more student risk tak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gestures to encourage communi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ropriate topics for ag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47760" y="239760"/>
            <a:ext cx="856440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588960" y="301680"/>
            <a:ext cx="7994520" cy="1015920"/>
          </a:xfrm>
          <a:prstGeom prst="rect">
            <a:avLst/>
          </a:prstGeom>
          <a:ln w="0">
            <a:noFill/>
          </a:ln>
        </p:spPr>
      </p:pic>
      <p:pic>
        <p:nvPicPr>
          <p:cNvPr id="150" name="Content Placeholder 9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5060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sessing the Interpersonal Mo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P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P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P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P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LO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M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ELL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APP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 – Spanish (soon to be French &amp; German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view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– Stud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- Stud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dacity (free downloadable progr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gital Voice Recorders (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cdw.com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ubr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39720"/>
            <a:ext cx="822960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flenj.org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on Consortium for Assessing Performance Standard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pturing the Elusive Butterf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aren Jogan – Albright College in 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8383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ree Essential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o we want students to know and be able to d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wel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the evidence that students can perform at the expected level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Convers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vs.  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Dialog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ontane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wo-w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gotiation of mea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676520"/>
            <a:ext cx="3200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1600200"/>
            <a:ext cx="3809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rip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ach student responsible for their own l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need to develop communicative strateg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personal Communic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914400"/>
          <a:ext cx="8229600" cy="5232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NO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e-way communicati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wo-way exchan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zed dialogue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ontaneous (an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predictable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viewer asking all the question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ing each oth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n takin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llowing-up and reacting;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ntaining the conversati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ly concerned abou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ing on the messa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lking to the camera or audien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ive body language; ey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c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of bilingual dictionar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circumlocution; gesture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utting down when no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stoo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king for clarificati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366280" y="6491160"/>
            <a:ext cx="50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©Copyright 2010 by the American Council on the Teaching of Foreign Language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ject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5959440" cy="6138720"/>
          </a:xfrm>
          <a:prstGeom prst="rect">
            <a:avLst/>
          </a:prstGeom>
          <a:ln w="0">
            <a:noFill/>
          </a:ln>
        </p:spPr>
      </p:pic>
      <p:pic>
        <p:nvPicPr>
          <p:cNvPr id="130" name="TextBox 14" descr=""/>
          <p:cNvPicPr/>
          <p:nvPr/>
        </p:nvPicPr>
        <p:blipFill>
          <a:blip r:embed="rId2"/>
          <a:stretch/>
        </p:blipFill>
        <p:spPr>
          <a:xfrm>
            <a:off x="6095880" y="380880"/>
            <a:ext cx="3048120" cy="7162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76212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Para comunicar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14" descr=""/>
          <p:cNvPicPr/>
          <p:nvPr/>
        </p:nvPicPr>
        <p:blipFill>
          <a:blip r:embed="rId1"/>
          <a:stretch/>
        </p:blipFill>
        <p:spPr>
          <a:xfrm>
            <a:off x="6324480" y="0"/>
            <a:ext cx="2664000" cy="8839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152280"/>
            <a:ext cx="59436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a conversación: Completa la convers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ontar   jugar    gustar    ir    alquilar   hac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rardo  ¿Quieres _____ al centro commercial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ía  No, no quiero. ¿Quieres _____ video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rardo  No, no quiero. Quiero ____ ejercici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ía  ¿Quieres _____ al básquetbol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rardo  No, no me gusta el básquetbol. ¿Quieres _____ en bicicleta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ía  Está bien.  Buena idea.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588960" y="301680"/>
            <a:ext cx="7994520" cy="101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Each person will pick a name out of the basket.    Announce the name to the class. Now that person is “taken.”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When everyone has a partner and you hear the signal, walk over and start a conversation about what each other does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You will get another signal in 3 minutes. Stop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Sit down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Share with the class something new you just learned about your conversation partner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1" descr="F:\Documents and Settings\Janet\Local Settings\Temporary Internet Files\Content.IE5\16681W75\MCj04041370000[1].wmf"/>
          <p:cNvPicPr/>
          <p:nvPr/>
        </p:nvPicPr>
        <p:blipFill>
          <a:blip r:embed="rId2"/>
          <a:stretch/>
        </p:blipFill>
        <p:spPr>
          <a:xfrm>
            <a:off x="8001000" y="380880"/>
            <a:ext cx="857160" cy="884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F:\Documents and Settings\Janet\Local Settings\Temporary Internet Files\Content.IE5\ATOL4XAV\MCj03252500000[1].wmf"/>
          <p:cNvPicPr/>
          <p:nvPr/>
        </p:nvPicPr>
        <p:blipFill>
          <a:blip r:embed="rId3"/>
          <a:stretch/>
        </p:blipFill>
        <p:spPr>
          <a:xfrm>
            <a:off x="8001000" y="3429000"/>
            <a:ext cx="76500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588960" y="301680"/>
            <a:ext cx="7994520" cy="101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 which activity do students see the long term goal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 learners invested in the result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 students have a say in planning the scaffolding they need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ile in pairs, do learners have opportunities to take on a variety of roles such as teacher or resource 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ich activity has more of a social component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 exercise mechanical or meaningful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es the exchange build towards proficiency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ich could accommodate a native speaker? A student with learning disabilitie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9:33:11Z</dcterms:created>
  <dc:creator>User</dc:creator>
  <dc:description/>
  <dc:language>en-US</dc:language>
  <cp:lastModifiedBy>User</cp:lastModifiedBy>
  <dcterms:modified xsi:type="dcterms:W3CDTF">2010-12-10T19:13:42Z</dcterms:modified>
  <cp:revision>19</cp:revision>
  <dc:subject/>
  <dc:title>Getting Students Talking</dc:title>
</cp:coreProperties>
</file>